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F71-83FB-41FE-9898-2D403CE2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DF6-F997-4589-B1CD-D241B3DF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AA9-F005-4D57-ACA5-8218351B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306-D980-4DCC-83DE-0C994628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462A-B5FF-492B-88CE-CA3CB4EE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A2B8-273C-4530-942A-0BDB5F52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594F-4A2F-44DD-9AB7-8A090626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C3F2-8CC0-4D23-B9DF-338C83A9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226B-49E8-4BE4-B628-4F5DDABF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1487-B92C-4DF6-A93E-F0664E13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842B-ED20-422E-B804-C7AC5D5B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D73-D9E4-400F-92EC-F27E273B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6677-53A6-4198-8E06-70E9D116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8576-3DDA-4C49-A92B-640A5EEA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CE5E-A8BB-4F9B-99F4-98E3B34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02A4-8571-4BA4-A311-47D44D21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873F-8BA8-46A1-BFDE-ABB5464F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34B-89FE-4CA5-8196-719AE752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4C2-B5E8-430C-807C-F9D5A705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FBD-6EC1-42D2-A5BF-935BA2B3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A39-0EC6-4F11-9477-294E1280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36C-8D93-445A-92B7-956399E0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579-B0F4-4224-9FE4-8C83B204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E56-7934-4FCC-B060-ADECA3AE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E919-7329-4973-927E-26E1D98EA0B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3573-FDD5-4B92-ADE4-675902AB5C2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867280" cy="1676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030a0"/>
                </a:solidFill>
                <a:latin typeface="Comic Sans MS"/>
              </a:rPr>
              <a:t>Hoy es el 11 de junio del 201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Propósito #82: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onde se habla español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Actividad inic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scribe los 7 continentes en tu cuadern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Repasar el paquete de CASI CAS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ntregar el paque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42667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Comic Sans MS"/>
              </a:rPr>
              <a:t>EL ESPAÑOL</a:t>
            </a:r>
            <a:br>
              <a:rPr sz="40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EN EL MUNDO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Sabías que...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•  El español es la 3ra lengua oficial más hablada en mundo (el chino mandarín es 1ro y el inglés es 2do). Más de 380 millones de personas la tienen como primera lengua - y en muchos países –21 en 4 continentes- .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5" descr="http://amaltheia.cs.teiher.gr/~kostas/spanish/Distribu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sjane</dc:creator>
  <dc:description/>
  <dc:language>en-US</dc:language>
  <cp:lastModifiedBy>Helen Zumaeta</cp:lastModifiedBy>
  <dcterms:modified xsi:type="dcterms:W3CDTF">2015-06-11T18:17:34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